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dailydou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400" y="685440"/>
            <a:ext cx="529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E01E-C2BE-486F-8FDF-480E3A4D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024-C2EC-4AF1-9739-5AC48EDF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413C-CFF9-4BC8-936B-212D0616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AED6-7477-43B8-BECB-9ACF3154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E31-A76F-401D-83A6-45F5051F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C052-FC90-4FD0-BAC4-A682B812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C6E-4439-4763-B60A-C51E5F7C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FDE-EDC1-4368-A3BD-3EFAD19A6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293-745D-4AB1-9EDA-30591137B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20A-2B7A-4C4F-A9FE-854B3595C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FFD-FB46-4A60-95B8-5A296879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92C-95DB-4AAF-ABF8-DD1944E3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ADE8-0469-4F48-9EF5-72F7B4B34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B0D-97C5-4518-859C-3CC818C7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6F3-F937-4936-B9EE-9C3C7A18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C63-9DAB-451A-AB8B-2456B75A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61C-EF1F-4155-9176-BA3D313C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714E-DA21-4662-8064-40D9023D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FD4-9B55-4A2B-92E6-EF291728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E63-703F-42C0-BAB2-1EFB30C5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AEFB-DF50-4111-8912-BA1D0E836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799F-042B-4CAC-9D07-1E4CC422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A03-3769-43FB-89AF-5E3501DB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292-9C68-4DAD-83E6-8323309B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17E-B045-46AC-9478-40DCA1B21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A29-77A8-493C-ACF3-53838F3FD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7BF6-6D15-4C50-AEAE-0845CF428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A2F-2C64-4EF0-888F-978FDB98B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C1B-6B89-4264-BFD6-BBD9AD81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893-AFDE-4FC3-B53C-1BD7F65E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C09-FBD9-493C-8EFC-95EF6F7B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B9C5-F742-477B-BC37-346E4213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29F6-7194-4DFD-B7A2-44194EAB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4C93-93E7-419C-8037-B8723388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CC2-DC55-46D0-8ECD-29F08509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0E0-640F-49E6-9531-D6B6DF16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350-E6E6-4120-910F-83A185DC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8FF-679D-46EE-8D79-8035581B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39A-E3CB-420E-A641-3450100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B01-1FD7-4150-BE22-D67C76D1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BA4-A565-4120-803F-8E702F2A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957-C3E4-4E40-B4CF-7C73F58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738-3625-414D-BE77-772BA4E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9D2-C4F6-49D0-A185-953A613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4CF-2313-46A2-975F-7E6496E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527-F525-461E-949C-7B2D4E2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507-CE8C-461B-B73B-23D51531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FB1-BD86-446C-A2DC-2B2A33E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625-3695-421E-BCE0-E341A31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F4F17815-A775-4C97-9056-04C01B740B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slide" Target="slide11.xml"/><Relationship Id="rId5" Type="http://schemas.openxmlformats.org/officeDocument/2006/relationships/slide" Target="slide27.xml"/><Relationship Id="rId6" Type="http://schemas.openxmlformats.org/officeDocument/2006/relationships/slide" Target="slide32.xml"/><Relationship Id="rId7" Type="http://schemas.openxmlformats.org/officeDocument/2006/relationships/slide" Target="slide7.xml"/><Relationship Id="rId8" Type="http://schemas.openxmlformats.org/officeDocument/2006/relationships/slide" Target="slide33.xml"/><Relationship Id="rId9" Type="http://schemas.openxmlformats.org/officeDocument/2006/relationships/slide" Target="slide28.xml"/><Relationship Id="rId10" Type="http://schemas.openxmlformats.org/officeDocument/2006/relationships/slide" Target="slide23.xml"/><Relationship Id="rId11" Type="http://schemas.openxmlformats.org/officeDocument/2006/relationships/slide" Target="slide17.xml"/><Relationship Id="rId12" Type="http://schemas.openxmlformats.org/officeDocument/2006/relationships/slide" Target="slide12.xml"/><Relationship Id="rId13" Type="http://schemas.openxmlformats.org/officeDocument/2006/relationships/slide" Target="slide8.xml"/><Relationship Id="rId14" Type="http://schemas.openxmlformats.org/officeDocument/2006/relationships/slide" Target="slide13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34.xml"/><Relationship Id="rId20" Type="http://schemas.openxmlformats.org/officeDocument/2006/relationships/slide" Target="slide9.xml"/><Relationship Id="rId21" Type="http://schemas.openxmlformats.org/officeDocument/2006/relationships/slide" Target="slide14.xml"/><Relationship Id="rId22" Type="http://schemas.openxmlformats.org/officeDocument/2006/relationships/slide" Target="slide25.xml"/><Relationship Id="rId23" Type="http://schemas.openxmlformats.org/officeDocument/2006/relationships/slide" Target="slide30.xml"/><Relationship Id="rId24" Type="http://schemas.openxmlformats.org/officeDocument/2006/relationships/slide" Target="slide35.xml"/><Relationship Id="rId25" Type="http://schemas.openxmlformats.org/officeDocument/2006/relationships/slide" Target="slide10.xml"/><Relationship Id="rId26" Type="http://schemas.openxmlformats.org/officeDocument/2006/relationships/slide" Target="slide31.xml"/><Relationship Id="rId27" Type="http://schemas.openxmlformats.org/officeDocument/2006/relationships/slide" Target="slide15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6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19.xml"/><Relationship Id="rId34" Type="http://schemas.openxmlformats.org/officeDocument/2006/relationships/audio" Target="../media/boardfill.wav"/><Relationship Id="rId35" Type="http://schemas.openxmlformats.org/officeDocument/2006/relationships/audio" Target="../media/WHOOSH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gas undergoes elastic collis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deal g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needs to be added to a regular gas to create plasm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e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12268080" y="7467480"/>
            <a:ext cx="1752840" cy="1524240"/>
          </a:xfrm>
          <a:custGeom>
            <a:avLst/>
            <a:gdLst>
              <a:gd name="textAreaLeft" fmla="*/ 98640 w 1752840"/>
              <a:gd name="textAreaRight" fmla="*/ 1654200 w 17528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1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5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19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1" y="7849"/>
                </a:lnTo>
                <a:cubicBezTo>
                  <a:pt x="10391" y="6709"/>
                  <a:pt x="11314" y="5821"/>
                  <a:pt x="12419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19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ubstance changes the organization of its atoms in one or two dimensions when it melt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liquid crys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kind of matter is the organization of atoms haphazar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Amorphous sol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 Plasmas are neutral, but what property do they have in common with metal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Conductiv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Peanut butter, cotton candy and wax are all examples of w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morphous sol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6705720" y="7707240"/>
            <a:ext cx="1600200" cy="167652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520"/>
              <a:gd name="textAreaBottom" fmla="*/ 1572840 h 1676520"/>
            </a:gdLst>
            <a:ahLst/>
            <a:rect l="textAreaLeft" t="textAreaTop" r="textAreaRight" b="textAreaBottom"/>
            <a:pathLst>
              <a:path w="21600" h="22630">
                <a:moveTo>
                  <a:pt x="0" y="0"/>
                </a:moveTo>
                <a:lnTo>
                  <a:pt x="21600" y="0"/>
                </a:lnTo>
                <a:lnTo>
                  <a:pt x="21600" y="22630"/>
                </a:lnTo>
                <a:lnTo>
                  <a:pt x="0" y="22630"/>
                </a:lnTo>
                <a:close/>
              </a:path>
              <a:path fill="lightenLess" w="21600" h="22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0">
                <a:moveTo>
                  <a:pt x="21600" y="0"/>
                </a:moveTo>
                <a:lnTo>
                  <a:pt x="21600" y="22630"/>
                </a:lnTo>
                <a:lnTo>
                  <a:pt x="20200" y="21230"/>
                </a:lnTo>
                <a:lnTo>
                  <a:pt x="20200" y="1400"/>
                </a:lnTo>
                <a:close/>
              </a:path>
              <a:path fill="darkenLess" w="21600" h="22630">
                <a:moveTo>
                  <a:pt x="21600" y="22630"/>
                </a:moveTo>
                <a:lnTo>
                  <a:pt x="0" y="22630"/>
                </a:lnTo>
                <a:lnTo>
                  <a:pt x="1400" y="21230"/>
                </a:lnTo>
                <a:lnTo>
                  <a:pt x="20200" y="21230"/>
                </a:lnTo>
                <a:close/>
              </a:path>
              <a:path fill="lighten" w="21600" h="22630">
                <a:moveTo>
                  <a:pt x="0" y="22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0"/>
                </a:lnTo>
                <a:close/>
              </a:path>
              <a:path fill="darken" w="21600" h="22630">
                <a:moveTo>
                  <a:pt x="10800" y="1531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30">
                <a:moveTo>
                  <a:pt x="11905" y="14796"/>
                </a:moveTo>
                <a:lnTo>
                  <a:pt x="11905" y="12838"/>
                </a:lnTo>
                <a:cubicBezTo>
                  <a:pt x="11905" y="12011"/>
                  <a:pt x="12236" y="11315"/>
                  <a:pt x="12837" y="11315"/>
                </a:cubicBezTo>
                <a:cubicBezTo>
                  <a:pt x="13968" y="11315"/>
                  <a:pt x="14865" y="9948"/>
                  <a:pt x="14865" y="8364"/>
                </a:cubicBezTo>
                <a:cubicBezTo>
                  <a:pt x="14865" y="6049"/>
                  <a:pt x="13011" y="4308"/>
                  <a:pt x="10800" y="4308"/>
                </a:cubicBezTo>
                <a:cubicBezTo>
                  <a:pt x="8589" y="4308"/>
                  <a:pt x="6918" y="6049"/>
                  <a:pt x="6918" y="8364"/>
                </a:cubicBezTo>
                <a:lnTo>
                  <a:pt x="8772" y="8364"/>
                </a:lnTo>
                <a:cubicBezTo>
                  <a:pt x="8772" y="7224"/>
                  <a:pt x="9695" y="6336"/>
                  <a:pt x="10800" y="6336"/>
                </a:cubicBezTo>
                <a:cubicBezTo>
                  <a:pt x="11905" y="6336"/>
                  <a:pt x="12837" y="7224"/>
                  <a:pt x="12837" y="8364"/>
                </a:cubicBezTo>
                <a:cubicBezTo>
                  <a:pt x="12837" y="9104"/>
                  <a:pt x="12367" y="9835"/>
                  <a:pt x="11905" y="9835"/>
                </a:cubicBezTo>
                <a:cubicBezTo>
                  <a:pt x="10800" y="9835"/>
                  <a:pt x="9695" y="11315"/>
                  <a:pt x="9695" y="12838"/>
                </a:cubicBezTo>
                <a:lnTo>
                  <a:pt x="9695" y="14796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at is the term used to describe the constant random motion of gas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rownian Mo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kinds of forces do not exist for ideal gas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tractive and repulsive for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rId1" action="ppaction://hlinksldjump"/>
          </p:cNvPr>
          <p:cNvSpPr/>
          <p:nvPr/>
        </p:nvSpPr>
        <p:spPr>
          <a:xfrm>
            <a:off x="9753480" y="76960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9" h="21600">
                <a:moveTo>
                  <a:pt x="13610" y="14281"/>
                </a:moveTo>
                <a:lnTo>
                  <a:pt x="13610" y="12323"/>
                </a:lnTo>
                <a:cubicBezTo>
                  <a:pt x="13610" y="11496"/>
                  <a:pt x="13941" y="10800"/>
                  <a:pt x="14541" y="10800"/>
                </a:cubicBezTo>
                <a:cubicBezTo>
                  <a:pt x="15673" y="10800"/>
                  <a:pt x="16569" y="9434"/>
                  <a:pt x="16569" y="7849"/>
                </a:cubicBezTo>
                <a:cubicBezTo>
                  <a:pt x="16569" y="5534"/>
                  <a:pt x="14715" y="3794"/>
                  <a:pt x="12505" y="3794"/>
                </a:cubicBezTo>
                <a:cubicBezTo>
                  <a:pt x="10294" y="3794"/>
                  <a:pt x="8623" y="5534"/>
                  <a:pt x="8623" y="7849"/>
                </a:cubicBezTo>
                <a:lnTo>
                  <a:pt x="10477" y="7849"/>
                </a:lnTo>
                <a:cubicBezTo>
                  <a:pt x="10477" y="6709"/>
                  <a:pt x="11399" y="5821"/>
                  <a:pt x="12505" y="5821"/>
                </a:cubicBezTo>
                <a:cubicBezTo>
                  <a:pt x="13610" y="5821"/>
                  <a:pt x="14541" y="6709"/>
                  <a:pt x="14541" y="7849"/>
                </a:cubicBezTo>
                <a:cubicBezTo>
                  <a:pt x="14541" y="8589"/>
                  <a:pt x="14071" y="9320"/>
                  <a:pt x="13610" y="9320"/>
                </a:cubicBezTo>
                <a:cubicBezTo>
                  <a:pt x="12505" y="9320"/>
                  <a:pt x="11399" y="10800"/>
                  <a:pt x="11399" y="12323"/>
                </a:cubicBezTo>
                <a:lnTo>
                  <a:pt x="11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37242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orce do particles exert on the walls of containers when they collide with th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63520" y="6324480"/>
            <a:ext cx="132145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essur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312800" cy="1133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65000"/>
          </a:bodyPr>
          <a:p>
            <a:pPr marL="249480" indent="-2494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Q  How much energy is lost in an elastic collis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03480" y="4952880"/>
            <a:ext cx="13214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How does the size of gas particles compare to spaces between th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hey are smaller in si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particles with different masses finish a race at the same time, which particle has the greater kinetic energ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larger (more massive) o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095880" y="866304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0" h="21600">
                <a:moveTo>
                  <a:pt x="14605" y="14281"/>
                </a:moveTo>
                <a:lnTo>
                  <a:pt x="14605" y="12323"/>
                </a:lnTo>
                <a:cubicBezTo>
                  <a:pt x="14605" y="11496"/>
                  <a:pt x="14936" y="10800"/>
                  <a:pt x="15537" y="10800"/>
                </a:cubicBezTo>
                <a:cubicBezTo>
                  <a:pt x="16668" y="10800"/>
                  <a:pt x="17565" y="9434"/>
                  <a:pt x="17565" y="7849"/>
                </a:cubicBezTo>
                <a:cubicBezTo>
                  <a:pt x="17565" y="5534"/>
                  <a:pt x="15711" y="3794"/>
                  <a:pt x="13500" y="3794"/>
                </a:cubicBezTo>
                <a:cubicBezTo>
                  <a:pt x="11289" y="3794"/>
                  <a:pt x="9618" y="5534"/>
                  <a:pt x="9618" y="7849"/>
                </a:cubicBezTo>
                <a:lnTo>
                  <a:pt x="11472" y="7849"/>
                </a:lnTo>
                <a:cubicBezTo>
                  <a:pt x="11472" y="6709"/>
                  <a:pt x="12395" y="5821"/>
                  <a:pt x="13500" y="5821"/>
                </a:cubicBezTo>
                <a:cubicBezTo>
                  <a:pt x="14605" y="5821"/>
                  <a:pt x="15537" y="6709"/>
                  <a:pt x="15537" y="7849"/>
                </a:cubicBezTo>
                <a:cubicBezTo>
                  <a:pt x="15537" y="8589"/>
                  <a:pt x="15067" y="9320"/>
                  <a:pt x="14605" y="9320"/>
                </a:cubicBezTo>
                <a:cubicBezTo>
                  <a:pt x="13500" y="9320"/>
                  <a:pt x="12395" y="10800"/>
                  <a:pt x="12395" y="12323"/>
                </a:cubicBezTo>
                <a:lnTo>
                  <a:pt x="123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he surface area of a liquid is small, then the rate of evaporation will 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l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05919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process by which particles fill a space due to their constant random mo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Dif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257472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3000"/>
          </a:bodyPr>
          <a:p>
            <a:pPr marL="357120" indent="-357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particles have the same mass but different kinetic energies, which particle moves fas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The one with more kinetic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6477120" y="861048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0000"/>
          </a:bodyPr>
          <a:p>
            <a:pPr marL="345600" indent="-34560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containers filled with oxygen gas are heated, one to 200K and one to 300K, which one will have gas particles with the greatest spe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-34560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one heated to 300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1277720" y="838188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893880"/>
            <a:ext cx="140745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t what temperature do particles stop mov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bsolute Ze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41508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en external pressure equals what pressure, does boiling occu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Vapor press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term that describes the amount of energy (heat) that 1 kg of a water must absorb to turn into a vap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Heat of vaporiz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1658600" y="77407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1" h="21600">
                <a:moveTo>
                  <a:pt x="13811" y="14281"/>
                </a:moveTo>
                <a:lnTo>
                  <a:pt x="13811" y="12323"/>
                </a:lnTo>
                <a:cubicBezTo>
                  <a:pt x="13811" y="11496"/>
                  <a:pt x="14142" y="10800"/>
                  <a:pt x="14742" y="10800"/>
                </a:cubicBezTo>
                <a:cubicBezTo>
                  <a:pt x="15874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6" y="3794"/>
                </a:cubicBezTo>
                <a:cubicBezTo>
                  <a:pt x="10495" y="3794"/>
                  <a:pt x="8824" y="5534"/>
                  <a:pt x="8824" y="7849"/>
                </a:cubicBezTo>
                <a:lnTo>
                  <a:pt x="10678" y="7849"/>
                </a:lnTo>
                <a:cubicBezTo>
                  <a:pt x="10678" y="6709"/>
                  <a:pt x="11600" y="5821"/>
                  <a:pt x="12706" y="5821"/>
                </a:cubicBezTo>
                <a:cubicBezTo>
                  <a:pt x="13811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1" y="9320"/>
                </a:cubicBezTo>
                <a:cubicBezTo>
                  <a:pt x="12706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temperature scale that is a direct measure of the kinetic energy of particl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Kelv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300K in degrees celsi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27 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s freezing an endothermic or exothermic proce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xotherm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when a solid turns directly to a gas without ever becoming a liqu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ublim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1963520" y="800100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when a gas is converted to a liqu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45820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t what temperature does a liquid turn into a sol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eezing poi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related to the energy released when 1 kg of a substance solidifies at its freezing po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eat of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991720" y="7769160"/>
            <a:ext cx="1447560" cy="1295640"/>
          </a:xfrm>
          <a:custGeom>
            <a:avLst/>
            <a:gdLst>
              <a:gd name="textAreaLeft" fmla="*/ 83880 w 1447560"/>
              <a:gd name="textAreaRight" fmla="*/ 1363680 w 144756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2" h="21600">
                <a:moveTo>
                  <a:pt x="0" y="0"/>
                </a:moveTo>
                <a:lnTo>
                  <a:pt x="24132" y="0"/>
                </a:lnTo>
                <a:lnTo>
                  <a:pt x="24132" y="21600"/>
                </a:lnTo>
                <a:lnTo>
                  <a:pt x="0" y="21600"/>
                </a:lnTo>
                <a:close/>
              </a:path>
              <a:path fill="lightenLess" w="24132" h="21600">
                <a:moveTo>
                  <a:pt x="0" y="0"/>
                </a:moveTo>
                <a:lnTo>
                  <a:pt x="24132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2" h="21600">
                <a:moveTo>
                  <a:pt x="24132" y="0"/>
                </a:moveTo>
                <a:lnTo>
                  <a:pt x="24132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2" h="21600">
                <a:moveTo>
                  <a:pt x="241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2" h="21600">
                <a:moveTo>
                  <a:pt x="120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32" h="21600">
                <a:moveTo>
                  <a:pt x="13171" y="14281"/>
                </a:moveTo>
                <a:lnTo>
                  <a:pt x="13171" y="12323"/>
                </a:lnTo>
                <a:cubicBezTo>
                  <a:pt x="13171" y="11496"/>
                  <a:pt x="13502" y="10800"/>
                  <a:pt x="14103" y="10800"/>
                </a:cubicBezTo>
                <a:cubicBezTo>
                  <a:pt x="15234" y="10800"/>
                  <a:pt x="16131" y="9434"/>
                  <a:pt x="16131" y="7849"/>
                </a:cubicBezTo>
                <a:cubicBezTo>
                  <a:pt x="16131" y="5534"/>
                  <a:pt x="14277" y="3794"/>
                  <a:pt x="12066" y="3794"/>
                </a:cubicBezTo>
                <a:cubicBezTo>
                  <a:pt x="9855" y="3794"/>
                  <a:pt x="8184" y="5534"/>
                  <a:pt x="8184" y="7849"/>
                </a:cubicBezTo>
                <a:lnTo>
                  <a:pt x="10038" y="7849"/>
                </a:lnTo>
                <a:cubicBezTo>
                  <a:pt x="10038" y="6709"/>
                  <a:pt x="10961" y="5821"/>
                  <a:pt x="12066" y="5821"/>
                </a:cubicBezTo>
                <a:cubicBezTo>
                  <a:pt x="13171" y="5821"/>
                  <a:pt x="14103" y="6709"/>
                  <a:pt x="14103" y="7849"/>
                </a:cubicBezTo>
                <a:cubicBezTo>
                  <a:pt x="14103" y="8589"/>
                  <a:pt x="13633" y="9320"/>
                  <a:pt x="13171" y="9320"/>
                </a:cubicBezTo>
                <a:cubicBezTo>
                  <a:pt x="12066" y="9320"/>
                  <a:pt x="10961" y="10800"/>
                  <a:pt x="10961" y="12323"/>
                </a:cubicBezTo>
                <a:lnTo>
                  <a:pt x="1096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9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8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2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69720" y="893880"/>
            <a:ext cx="26672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ates of Matt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240760" y="863640"/>
            <a:ext cx="2438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a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2877920" y="446040"/>
            <a:ext cx="266688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hang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Of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7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1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7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8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9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0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1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2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3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4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5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6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7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9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0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1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3">
            <a:hlinkClick r:id="rId15" action="ppaction://hlinksldjump"/>
          </p:cNvPr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4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5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6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8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9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0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1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2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3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4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5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6">
            <a:hlinkClick r:id="rId28" action="ppaction://hlinksldjump"/>
          </p:cNvPr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7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8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10744200" y="86364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emperature and Pressur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Double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5627520" y="88416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Kinetic Theor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4"/>
          <p:cNvSpPr/>
          <p:nvPr/>
        </p:nvSpPr>
        <p:spPr>
          <a:xfrm>
            <a:off x="5791320" y="716292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2"/>
          <p:cNvSpPr/>
          <p:nvPr/>
        </p:nvSpPr>
        <p:spPr>
          <a:xfrm>
            <a:off x="3124080" y="8953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lasma and other soli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ate of matter has a definite volume and an indefinite sha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liqu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kind of motion describes the movement of atoms in a sol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vib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the term used to describe the organization of atoms in a sol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Crystal lat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ate of matter is most compressib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G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Dawn</cp:lastModifiedBy>
  <dcterms:modified xsi:type="dcterms:W3CDTF">2013-03-18T01:26:20Z</dcterms:modified>
  <cp:revision>94</cp:revision>
  <dc:subject/>
  <dc:title>Jeopardy</dc:title>
</cp:coreProperties>
</file>